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629E-EC1A-42F0-9ACF-2E1A2C560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E413-8D1A-4408-A73C-3CF66C89F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FF70-D898-4C71-A0C4-85A149341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9E96-AEDE-4163-B04A-54B3F961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020C-35DE-4C3E-8BF6-0319A6214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5827-521B-405B-A0D2-BA714FD40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A7FA-1639-4FB0-AD6E-2E16EDFB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F178-5D2C-4E73-9F3D-7313436B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9008-CFB1-4CA2-93C8-2D8D4FDA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5B72-489C-4922-9F55-F116CC99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C833-63C3-4B6E-861B-A1049915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1F58-DFFB-47CF-8B1E-7C9B36DA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B81D-CE83-4184-9D9B-C8A22F93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F650-3B5B-45B1-A3EC-672EBC6B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CA86-D7F8-485E-A0C8-13FDB36831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static.guim.co.uk/sys-images/Guardian/Pix/pictures/2009/10/13/1255461205065/Benito-Mussolini-in-Dress-002.jpg"/>
          <p:cNvPicPr/>
          <p:nvPr/>
        </p:nvPicPr>
        <p:blipFill>
          <a:blip r:embed="rId1"/>
          <a:stretch/>
        </p:blipFill>
        <p:spPr>
          <a:xfrm>
            <a:off x="380880" y="228600"/>
            <a:ext cx="4381560" cy="262908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4"/>
          <p:cNvSpPr/>
          <p:nvPr/>
        </p:nvSpPr>
        <p:spPr>
          <a:xfrm>
            <a:off x="63360" y="-868320"/>
            <a:ext cx="25243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6"/>
          <p:cNvSpPr/>
          <p:nvPr/>
        </p:nvSpPr>
        <p:spPr>
          <a:xfrm>
            <a:off x="63360" y="-868320"/>
            <a:ext cx="25243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http://0.tqn.com/d/history1900s/1/0/D/A/1/hitler47.jpg"/>
          <p:cNvPicPr/>
          <p:nvPr/>
        </p:nvPicPr>
        <p:blipFill>
          <a:blip r:embed="rId2"/>
          <a:stretch/>
        </p:blipFill>
        <p:spPr>
          <a:xfrm>
            <a:off x="3200400" y="3048120"/>
            <a:ext cx="2695680" cy="3735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http://www.pbs.org/behindcloseddoors/tmp_assets/stalin-bio.jpg"/>
          <p:cNvPicPr/>
          <p:nvPr/>
        </p:nvPicPr>
        <p:blipFill>
          <a:blip r:embed="rId3"/>
          <a:stretch/>
        </p:blipFill>
        <p:spPr>
          <a:xfrm>
            <a:off x="380880" y="3124080"/>
            <a:ext cx="2619360" cy="3372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http://sites.duke.edu/wcwp/files/2009/12/Franco.jpg"/>
          <p:cNvPicPr/>
          <p:nvPr/>
        </p:nvPicPr>
        <p:blipFill>
          <a:blip r:embed="rId4"/>
          <a:stretch/>
        </p:blipFill>
        <p:spPr>
          <a:xfrm>
            <a:off x="6019920" y="457200"/>
            <a:ext cx="2990880" cy="3362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http://upload.wikimedia.org/wikipedia/commons/thumb/f/f0/Hideki_Tojo.jpg/220px-Hideki_Tojo.jpg"/>
          <p:cNvPicPr/>
          <p:nvPr/>
        </p:nvPicPr>
        <p:blipFill>
          <a:blip r:embed="rId5"/>
          <a:stretch/>
        </p:blipFill>
        <p:spPr>
          <a:xfrm>
            <a:off x="6553080" y="3962520"/>
            <a:ext cx="2095560" cy="26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S Shaw Explo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www.nps.gov/history/history/online_books/npswapa/gallery/albums/album13/PH16Shawexplod.jpg"/>
          <p:cNvPicPr/>
          <p:nvPr/>
        </p:nvPicPr>
        <p:blipFill>
          <a:blip r:embed="rId1"/>
          <a:stretch/>
        </p:blipFill>
        <p:spPr>
          <a:xfrm>
            <a:off x="777960" y="1676520"/>
            <a:ext cx="699444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S Arizo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arizona.jpg"/>
          <p:cNvPicPr/>
          <p:nvPr/>
        </p:nvPicPr>
        <p:blipFill>
          <a:blip r:embed="rId1"/>
          <a:stretch/>
        </p:blipFill>
        <p:spPr>
          <a:xfrm>
            <a:off x="1523880" y="1676520"/>
            <a:ext cx="655164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S Arizona Memo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www.pearl-harbor.com/arizona/images/arizona_memorial_pearl_harbor.jpg"/>
          <p:cNvPicPr/>
          <p:nvPr/>
        </p:nvPicPr>
        <p:blipFill>
          <a:blip r:embed="rId1"/>
          <a:stretch/>
        </p:blipFill>
        <p:spPr>
          <a:xfrm>
            <a:off x="533520" y="1905120"/>
            <a:ext cx="82407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pacificmap.jpg"/>
          <p:cNvPicPr/>
          <p:nvPr/>
        </p:nvPicPr>
        <p:blipFill>
          <a:blip r:embed="rId1"/>
          <a:stretch/>
        </p:blipFill>
        <p:spPr>
          <a:xfrm>
            <a:off x="762120" y="1371600"/>
            <a:ext cx="761976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PS Photo Gall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2286000" y="29671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ps.gov/history/history/online_books/npswapa/gallery/albums/album13/PH1.htm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merica in WWII mobilized in a way never seen before – or sinc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1143000" y="1828800"/>
            <a:ext cx="4091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"/>
              </a:rPr>
              <a:t>Use it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"/>
              </a:rPr>
              <a:t>Wear it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"/>
              </a:rPr>
              <a:t>Make it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"/>
              </a:rPr>
              <a:t>Or do with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5486400" y="2057400"/>
            <a:ext cx="388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8ed5"/>
                </a:solidFill>
                <a:latin typeface="Berlin Sans FB Demi"/>
              </a:rPr>
              <a:t>Victory Gard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4419720" y="3733920"/>
            <a:ext cx="5175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bb59"/>
                </a:solidFill>
                <a:latin typeface="Goudy Stout"/>
              </a:rPr>
              <a:t>Rationing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bb59"/>
                </a:solidFill>
                <a:latin typeface="Goudy Stout"/>
              </a:rPr>
              <a:t>Meat, ga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bb59"/>
                </a:solidFill>
                <a:latin typeface="Goudy Stout"/>
              </a:rPr>
              <a:t>Tires, women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bb59"/>
                </a:solidFill>
                <a:latin typeface="Goudy Stout"/>
              </a:rPr>
              <a:t>Nylon stockin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bb59"/>
                </a:solidFill>
                <a:latin typeface="Goudy Stout"/>
              </a:rPr>
              <a:t>rub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1447200" y="4038480"/>
            <a:ext cx="208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f0"/>
                </a:solidFill>
                <a:latin typeface="Matura MT Script Capitals"/>
              </a:rPr>
              <a:t>V-Mai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1"/>
          <p:cNvSpPr/>
          <p:nvPr/>
        </p:nvSpPr>
        <p:spPr>
          <a:xfrm>
            <a:off x="3360600" y="5715000"/>
            <a:ext cx="317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pperplate Gothic Bold"/>
              </a:rPr>
              <a:t>Black O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zing for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ar Production Board (WWI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&amp; Office of War Mobi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nald Nels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PB not very powerf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ferred power to OW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mes F. Byr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bilize economy for w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v’t purchases of military suppl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fice of Price Administ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ar Industries Board (WW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47960" y="198108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rnard Baru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aged gov’t purchases of military suppl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ided which factories would convert to war 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prices for go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oose gov’t contr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fice of Food Administration (Hoover), Coal, Fu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bor and the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W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ormous boost to union memb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bor short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 restrictions on un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ttle Steel Formu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Strike Pled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ldcat strikes still exis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osevelt threat to take over mines (UMW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W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ormous boost to union memb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t’l War Labor B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ssured industry to grant concessions to work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 hr day, equal pay, rt of union to organi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rkers had to forgo strik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udlow Massac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me front Arti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homefront_001.JPG"/>
          <p:cNvPicPr/>
          <p:nvPr/>
        </p:nvPicPr>
        <p:blipFill>
          <a:blip r:embed="rId1"/>
          <a:stretch/>
        </p:blipFill>
        <p:spPr>
          <a:xfrm>
            <a:off x="838080" y="1600200"/>
            <a:ext cx="702000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paintedonlegs.jpg"/>
          <p:cNvPicPr/>
          <p:nvPr/>
        </p:nvPicPr>
        <p:blipFill>
          <a:blip r:embed="rId1"/>
          <a:stretch/>
        </p:blipFill>
        <p:spPr>
          <a:xfrm>
            <a:off x="4572000" y="1752480"/>
            <a:ext cx="3857760" cy="4724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waves.jpg"/>
          <p:cNvPicPr/>
          <p:nvPr/>
        </p:nvPicPr>
        <p:blipFill>
          <a:blip r:embed="rId2"/>
          <a:stretch/>
        </p:blipFill>
        <p:spPr>
          <a:xfrm>
            <a:off x="2057400" y="1676520"/>
            <a:ext cx="2143080" cy="3019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waac_poster.jpg"/>
          <p:cNvPicPr/>
          <p:nvPr/>
        </p:nvPicPr>
        <p:blipFill>
          <a:blip r:embed="rId3"/>
          <a:stretch/>
        </p:blipFill>
        <p:spPr>
          <a:xfrm>
            <a:off x="457200" y="3581280"/>
            <a:ext cx="199080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t3.gstatic.com/images?q=tbn:ANd9GcTX5KJEeHniq7U5SabMdW3OIloGqp3NKUyHrwJs1aRo3KyFDxhrPlu076BHHw"/>
          <p:cNvPicPr/>
          <p:nvPr/>
        </p:nvPicPr>
        <p:blipFill>
          <a:blip r:embed="rId1"/>
          <a:stretch/>
        </p:blipFill>
        <p:spPr>
          <a:xfrm>
            <a:off x="3657600" y="2209680"/>
            <a:ext cx="2832120" cy="3295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://jdereport.com.au/wp-content/uploads/2009/04/winston_churchill_victory_1.jpg"/>
          <p:cNvPicPr/>
          <p:nvPr/>
        </p:nvPicPr>
        <p:blipFill>
          <a:blip r:embed="rId2"/>
          <a:stretch/>
        </p:blipFill>
        <p:spPr>
          <a:xfrm>
            <a:off x="5943600" y="304920"/>
            <a:ext cx="2857680" cy="2705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upload.wikimedia.org/wikipedia/commons/thumb/b/b8/FDR_in_1933.jpg/220px-FDR_in_1933.jpg"/>
          <p:cNvPicPr/>
          <p:nvPr/>
        </p:nvPicPr>
        <p:blipFill>
          <a:blip r:embed="rId3"/>
          <a:stretch/>
        </p:blipFill>
        <p:spPr>
          <a:xfrm>
            <a:off x="457200" y="304920"/>
            <a:ext cx="2782800" cy="3276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http://upload.wikimedia.org/wikipedia/commons/thumb/2/27/De_Gaulle-OWI.jpg/200px-De_Gaulle-OWI.jpg"/>
          <p:cNvPicPr/>
          <p:nvPr/>
        </p:nvPicPr>
        <p:blipFill>
          <a:blip r:embed="rId4"/>
          <a:stretch/>
        </p:blipFill>
        <p:spPr>
          <a:xfrm>
            <a:off x="6705720" y="3276720"/>
            <a:ext cx="2209680" cy="3314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http://infranco.longwoodteachers.com/8thgrade/New%20Deal/chat1.jpg"/>
          <p:cNvPicPr/>
          <p:nvPr/>
        </p:nvPicPr>
        <p:blipFill>
          <a:blip r:embed="rId5"/>
          <a:stretch/>
        </p:blipFill>
        <p:spPr>
          <a:xfrm>
            <a:off x="152280" y="4038480"/>
            <a:ext cx="34290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PI (WWI) vs. OWI (WWII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loose-lips-sink-ships-1.jpg"/>
          <p:cNvPicPr/>
          <p:nvPr/>
        </p:nvPicPr>
        <p:blipFill>
          <a:blip r:embed="rId1"/>
          <a:stretch/>
        </p:blipFill>
        <p:spPr>
          <a:xfrm>
            <a:off x="4724280" y="1523880"/>
            <a:ext cx="3724560" cy="5024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'Destroy this mad brute' WWI propaganda poster (US version).jpg"/>
          <p:cNvPicPr/>
          <p:nvPr/>
        </p:nvPicPr>
        <p:blipFill>
          <a:blip r:embed="rId2"/>
          <a:stretch/>
        </p:blipFill>
        <p:spPr>
          <a:xfrm>
            <a:off x="457200" y="1371600"/>
            <a:ext cx="34034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nic Distinctions Blurred/ Curtailment of Civil Liber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W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tred, prejudice towards Germans, Italians, Communists etc – SAV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berty Cabbage”, “Liberty Sausage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rman movies, language from schools ban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0 Percent Americani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jor violations of Civil Liber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spionage &amp; Sedition Ac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chenck v. US/ Abrams v. 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lmer Raids/Red Sca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W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4720" y="2174400"/>
            <a:ext cx="404172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the whole, this war seemed to blur ethnic distinctions rather than heighten th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ttle  hostility towards German-Americans, Italian-Americ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cept for Japanese Americ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 as many widespread, flagrant violations of Civil Liber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few jailing of Nazi/American fascist, but nothing widespre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ov’t  generally left Socialists and Communists al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norities and WW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life like for you during WWI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What advances are you seeing in your way of life? Examples of these cha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What prejudices/discrimination still exist? Exa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norities &amp; WW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838080"/>
          <a:ext cx="8229600" cy="597852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58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www.ushmm.org/lcmedia/map/lc/image/eur86810.gif"/>
          <p:cNvPicPr/>
          <p:nvPr/>
        </p:nvPicPr>
        <p:blipFill>
          <a:blip r:embed="rId1"/>
          <a:stretch/>
        </p:blipFill>
        <p:spPr>
          <a:xfrm>
            <a:off x="228600" y="914400"/>
            <a:ext cx="81280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2286000" y="310500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teachingamericanhistory.org/neh/interactives/neutrality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TextBox 2" descr=""/>
          <p:cNvPicPr/>
          <p:nvPr/>
        </p:nvPicPr>
        <p:blipFill>
          <a:blip r:embed="rId1"/>
          <a:stretch/>
        </p:blipFill>
        <p:spPr>
          <a:xfrm>
            <a:off x="2073240" y="554040"/>
            <a:ext cx="452916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762120" y="3962520"/>
            <a:ext cx="7391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 foreign policy was to abolish the Treaty of Versailles.   It is futile nonsense for the rest of the world to pretend today that I did not reveal this program until 1933 or 1935 or 1937.   Instead of listening to foolish chatter, these gentlemen would have been wiser to read what I have written thousands of 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tler, talking on 15 March 193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295280" y="2743200"/>
            <a:ext cx="541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No power on earth will get me out of this building alive!“ Hitler, talking on 30, January, 1933 after becoming Chancellor of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875160" y="609480"/>
            <a:ext cx="7587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achieved an equal understanding of the importance of phys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ror toward the individual and the masses…Terror at the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employment, in the factory, in the meeting hall, an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casion of mass demonstrations will always be successful unl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posed by equal terror…Hitler in Mein Kam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uses of the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Treaty of Versailles did not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League of nations failed to keep pe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Worldwide Depr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Appeasement encouraged aggr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Hitler was an expansion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 Events in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tler’s rearmament rally in 19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ilitarization of the Rhineland, 19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chlu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detenland and the Munich Agreement 19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asion of Czechoslovakia 193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zi-Soviet Pact, 193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asion of Po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utrality Tes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088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utrality Acts of 1935,36,37, 3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sh and Car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935 – non-military go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939 – arms embargo lif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vy “Destroyers for Bases” in Caribbe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d-Lease Program 194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anded with US warships escorting British ships for part of jour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si-naval war with Germa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ive Service Act of 19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Question of Pearl 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 the Japanese attack on P.H. unprovoked  and without warning like FDR said, or was it part of a deliberate plan by the President to make the Japanese force a reluctant US into wa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d the administration know of the attack and did FDR deliberately refrain from warning Hawaii so that air raid’s effect would be more profoun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S Arizona explo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://donmooreswartales.files.wordpress.com/2011/04/vern-olsen-uss-arizona-burning.gif"/>
          <p:cNvPicPr/>
          <p:nvPr/>
        </p:nvPicPr>
        <p:blipFill>
          <a:blip r:embed="rId1"/>
          <a:stretch/>
        </p:blipFill>
        <p:spPr>
          <a:xfrm>
            <a:off x="1905120" y="1905120"/>
            <a:ext cx="571500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7T16:02:50Z</dcterms:created>
  <dc:creator>dmcnamar</dc:creator>
  <dc:description/>
  <dc:language>en-US</dc:language>
  <cp:lastModifiedBy>dmcnamar</cp:lastModifiedBy>
  <dcterms:modified xsi:type="dcterms:W3CDTF">2012-03-19T16:39:33Z</dcterms:modified>
  <cp:revision>39</cp:revision>
  <dc:subject/>
  <dc:title>Slide 1</dc:title>
</cp:coreProperties>
</file>